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496-FEFB-4C7D-ADE8-5A788E52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37C-AC20-4180-8164-0AE1A85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B85-2AD3-40BD-8C18-6BEAD550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A24-B851-431D-829C-5A20A659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BE5-2EA6-46F9-AEC8-81DC883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239-DCCB-487D-97E6-5CD182CA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838-C42B-4D97-947B-8EBF352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B34-1B16-4D3B-A0A8-4E26FA15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D35-E921-446B-8689-61E9E2B5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21D-B552-4E9A-8537-34160B8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910-662E-4B67-81AA-51541F0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241-E261-4B58-AAA1-0CB2E42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03A-4AD0-42B3-9E90-431A341F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mic Str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106" r="0" b="0"/>
          <a:stretch/>
        </p:blipFill>
        <p:spPr>
          <a:xfrm>
            <a:off x="152280" y="2514600"/>
            <a:ext cx="8763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22917" r="61722" b="45834"/>
          <a:stretch/>
        </p:blipFill>
        <p:spPr>
          <a:xfrm>
            <a:off x="228600" y="0"/>
            <a:ext cx="4267080" cy="27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3127" t="57297" r="62501" b="12502"/>
          <a:stretch/>
        </p:blipFill>
        <p:spPr>
          <a:xfrm>
            <a:off x="4648320" y="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3127" t="19791" r="62501" b="50002"/>
          <a:stretch/>
        </p:blipFill>
        <p:spPr>
          <a:xfrm>
            <a:off x="228600" y="3254400"/>
            <a:ext cx="4191120" cy="291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3127" t="53128" r="62501" b="15627"/>
          <a:stretch/>
        </p:blipFill>
        <p:spPr>
          <a:xfrm>
            <a:off x="4724280" y="3352680"/>
            <a:ext cx="419112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2743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819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Principal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Principal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School Talent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44" t="26042" r="62501" b="42708"/>
          <a:stretch/>
        </p:blipFill>
        <p:spPr>
          <a:xfrm>
            <a:off x="0" y="152280"/>
            <a:ext cx="4267080" cy="284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344" t="60422" r="62501" b="8333"/>
          <a:stretch/>
        </p:blipFill>
        <p:spPr>
          <a:xfrm>
            <a:off x="4419720" y="1522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3127" t="36462" r="61722" b="33337"/>
          <a:stretch/>
        </p:blipFill>
        <p:spPr>
          <a:xfrm>
            <a:off x="1981080" y="3198960"/>
            <a:ext cx="5334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3127" t="29168" r="62501" b="40626"/>
          <a:stretch/>
        </p:blipFill>
        <p:spPr>
          <a:xfrm>
            <a:off x="685800" y="762120"/>
            <a:ext cx="7543800" cy="49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1563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127" t="28124" r="62501" b="40626"/>
          <a:stretch/>
        </p:blipFill>
        <p:spPr>
          <a:xfrm>
            <a:off x="380880" y="609480"/>
            <a:ext cx="7772400" cy="529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876320" cy="224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5120" y="3276720"/>
            <a:ext cx="2492280" cy="267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594320" y="3352680"/>
            <a:ext cx="1235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3:53:00Z</dcterms:created>
  <dc:creator>Patrick J. Mooney</dc:creator>
  <dc:description/>
  <dc:language>en-US</dc:language>
  <cp:lastModifiedBy>Patrick J. Mooney</cp:lastModifiedBy>
  <dcterms:modified xsi:type="dcterms:W3CDTF">2011-12-13T14:25:21Z</dcterms:modified>
  <cp:revision>6</cp:revision>
  <dc:subject/>
  <dc:title>Slide 1</dc:title>
</cp:coreProperties>
</file>